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media/image9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F67A-54CB-424E-B3E9-D806A3993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ECCD-75DE-4BA6-8D74-16F7D1E08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A979-3632-4A45-B60B-3E12C9CCB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014F-D46B-4BBB-AB5D-D010D964D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BC5B-0B7A-40B4-A74A-58A664537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36FF-DB16-487A-9144-63217A2E8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F729-2405-47D8-8DAC-45446B66F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D0A7-73E5-4FEE-9DC7-D43018CCA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A51C-7398-4730-9766-60BEE3681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F335-C547-4EA5-B4BC-34416DD5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4AE7-96A9-4D6F-B1E7-0E9E271A0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E264-2FBD-4313-873A-46B7DD11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065FB-838C-4B96-9D55-CB26C0EFA3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Physical Properties of Matter</a:t>
            </a: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r. Wagenborg Grade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an be observed or measure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ithout changing the matter’s ide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an be found by using the five senses and simple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rmal Condu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bility to transfe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t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 Thermal Conductors – metal, leathe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umin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219320" y="3276720"/>
            <a:ext cx="6350040" cy="41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rmal Condu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Thermal Conductors- Styrofoam, plastic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o called insul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Think about which type of materials are used in coffee cups or in winter clot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447920" y="4191120"/>
            <a:ext cx="1841400" cy="2539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962520" y="3733920"/>
            <a:ext cx="1906560" cy="2717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943600" y="4419720"/>
            <a:ext cx="149868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ether the object is its solid liquid or gas 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– Water can be ice, liquid or vap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81080" y="4343400"/>
            <a:ext cx="4064040" cy="19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lu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well a substance can dissolve in another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od Solubility- Sugar and Water or Kool Aid  Mix and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d Solubility – Oil and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715000" y="3505320"/>
            <a:ext cx="1041480" cy="1638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057400" y="4952880"/>
            <a:ext cx="109224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uct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well a substance can be pulled in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Ductility- Copper- it is made into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143000" y="4343400"/>
            <a:ext cx="1473120" cy="1384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124080" y="4343400"/>
            <a:ext cx="1422360" cy="14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lle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well an object can be rolled or  pounded into thin she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Malleability – Aluminum or T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981080" y="41148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ns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much mass the matter has compar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volu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es whether an object sinks or floa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Density- Lead,St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 Density-Plastic,W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095880" y="3657600"/>
            <a:ext cx="1435320" cy="16257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743200" y="5181480"/>
            <a:ext cx="2362320" cy="15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12:06:18Z</dcterms:created>
  <dc:creator>School District of Philadelphia</dc:creator>
  <dc:description/>
  <dc:language>en-US</dc:language>
  <cp:lastModifiedBy>School District of Philadelphia</cp:lastModifiedBy>
  <dcterms:modified xsi:type="dcterms:W3CDTF">2011-09-25T16:28:16Z</dcterms:modified>
  <cp:revision>11</cp:revision>
  <dc:subject/>
  <dc:title>Physical Properties of Matter </dc:title>
</cp:coreProperties>
</file>